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81603-06EC-4FBC-9188-6F90AD829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7382C-C0FE-49F6-8AC6-F02CCAD55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9AFB8-6130-4825-BFAF-3C77DFFE4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75D7F-CC3E-48A1-9F57-628EE3C3D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128167-35CC-4A50-BBAB-D44673013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D288E4-2491-4BBA-B965-AD5F82446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6A2F67-F03C-4D30-B722-FB6DD4660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06C78A-C714-4D39-9DC8-D3FBEE11C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77D608-CBC7-45E0-97D6-871F7CB48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1996920"/>
            <a:ext cx="7772400" cy="66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63948B-1C60-4335-A802-B69C023AA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8D45AC-228B-4EDD-B8F9-BD3E8BAC4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98196-CDF5-493A-811B-196B13807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822F27-ED62-4093-98FD-1756077DA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350869-7F13-4CB6-B351-5D65BAB2E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409E81-C5A8-4C14-9F0E-C7ACC3F5F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E9DB52-7B81-457C-A7AF-230FC2BEE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FDC554-1E03-45E0-9F1B-FB5DCF8D0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461FD-B3BB-4651-B50F-D5C0CA43A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71375-E180-49D6-8F22-393408D98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86FC2-2A4E-401D-A7E6-27DDFC021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996920"/>
            <a:ext cx="7772400" cy="66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3732A-515E-436F-A91C-4102C3051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584F0-F5F0-4552-8D64-2125AD17B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C900E-B3A6-4A4A-AB36-0590B29A5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3097F-A04F-4508-88D6-4A4DB9F68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69195-16D5-46AC-864B-814912390A0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CA793-F1EF-4496-9F96-8A8171656B5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Zukunftsvisionen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ahoma"/>
              </a:rPr>
              <a:t>Fabian Graier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ahoma"/>
              </a:rPr>
              <a:t>Thomas Kohlbach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9000"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harlesworth"/>
              </a:rPr>
              <a:t>Design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4030560"/>
            <a:ext cx="4038480" cy="198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Das Display wird in Zukunft auch wireless auf Brillen übertragen werd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5479920" y="1557360"/>
            <a:ext cx="2592360" cy="46800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1060560" y="1905120"/>
            <a:ext cx="2830320" cy="1987560"/>
          </a:xfrm>
          <a:prstGeom prst="rect">
            <a:avLst/>
          </a:prstGeom>
          <a:ln w="0">
            <a:noFill/>
          </a:ln>
        </p:spPr>
      </p:pic>
    </p:spTree>
  </p:cSld>
  <p:transition spd="med" advTm="9000">
    <p:cover dir="d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Leistungsfähigkei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rößerer Speicher durch Speicherkar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erbesserte Akkuleistung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olardispla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4643280" y="1628640"/>
            <a:ext cx="2089440" cy="208944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4716360" y="4005360"/>
            <a:ext cx="1728720" cy="1728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bmessunge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e Größe des Handys wird sich noch weiter reduziere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4572000" y="2421000"/>
            <a:ext cx="3848040" cy="2762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3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Das Display der Zukunft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as Display vereint Megapixeltechnologie mit der Fähigkeit mittels  integrierter Solarzellen das Handy mit Strom zu versorg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468360" y="1916280"/>
            <a:ext cx="4032360" cy="4105080"/>
          </a:xfrm>
          <a:prstGeom prst="rect">
            <a:avLst/>
          </a:prstGeom>
          <a:ln w="0">
            <a:noFill/>
          </a:ln>
        </p:spPr>
      </p:pic>
    </p:spTree>
  </p:cSld>
  <p:transition spd="med" advTm="9000">
    <p:cover dir="d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Das Handy als Allzweckgerä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rmometer/Barometer/Hygrometer/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Zentimet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aserpointer für Präsentation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schenlamp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ingebaute Videokamera mit leistungsfähigerem Objektiv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9000">
    <p:cover dir="d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0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ir danken für Ihre Aufmerksamkei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9000">
    <p:cover dir="d"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5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5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3T07:45:37Z</dcterms:created>
  <dc:creator>tkohlbacher</dc:creator>
  <dc:description/>
  <dc:language>en-US</dc:language>
  <cp:lastModifiedBy>tkohlbacher</cp:lastModifiedBy>
  <dcterms:modified xsi:type="dcterms:W3CDTF">2005-01-24T08:12:19Z</dcterms:modified>
  <cp:revision>14</cp:revision>
  <dc:subject/>
  <dc:title>Zukunftsvisionen </dc:title>
</cp:coreProperties>
</file>